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439-7A09-41D9-BA98-6A46CAD9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AA2-A4A0-4135-A373-92DF4115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4E5-22EE-499B-8824-7C56F5BE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C5C-60DE-4A95-BA3F-82E74C51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BF0-CF26-41ED-8D78-11C7F55B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C6A-D069-4049-BE31-216A833F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209-F588-4022-B7B5-E00F5D6D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58C-7688-42B0-8A2D-3FCC4DEC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D4B-BDC6-42B8-A7AC-6258ADC1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0B8-E557-4C68-9B1F-260CE6A5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2F6-D5DA-440C-9A95-CEF21858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C6F-6485-4BAE-B389-80CB538C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276F-9C39-460D-B1DB-C4AFE2FD2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5640" y="4952880"/>
            <a:ext cx="359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Biology by Miller and Levine; Prenntice Hall Publishing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©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33560"/>
            <a:ext cx="79246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105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“survival of the fittest”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5909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dea that organisms that are best suited to their environment survive and reproduce most successfu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4197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n adap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05740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y inherited characteristic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creases and organisms chance for survi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46483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n adaptation 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haracteristic that increases a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rganism’s chances of survi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42670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o is James Hutton O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les Lyell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0" y="2971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one of the geologist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se ideas influenced Darw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2670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o is Jean-Baptiste Lamar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1337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ench naturalist who proposed the inheritance of acquired tra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434340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is “genes determine which traits are passed on”; acquired traits aren’t inheritab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lain why Lamarck’s hypothesis about inheritance of acquired traits is incorr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181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o is Thomas Malth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st who predicted that the human population will grow fas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an the food and space needed to sustain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o is Alfred Wal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98108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 whose similar ideas about evolution prompted Darwin to publish his THEORY of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3886200"/>
            <a:ext cx="77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se are examples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8620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ologous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191120" cy="3400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200" y="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48006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kink legs are examples of 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006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486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estigial org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0" t="0" r="0" b="7927"/>
          <a:stretch/>
        </p:blipFill>
        <p:spPr>
          <a:xfrm>
            <a:off x="380880" y="228600"/>
            <a:ext cx="4057920" cy="4114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8640" y="380880"/>
            <a:ext cx="386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Biology by Miller and Levine; Prenntice Hall Publishing©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win’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1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5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76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867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nheritance of Acquired trai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905120"/>
            <a:ext cx="510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a that this crab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uld make its claw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gger by using i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hen pass thi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big claw trait” on t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s offsp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519360" cy="5181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82320" y="0"/>
            <a:ext cx="386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ology by Miller and Levine; Prenntice Hall Publishing©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3809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turtle’s long neck, a porcupine’s quills, and a polar bear’s white fur are all examples of 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rcRect l="56319" t="32616" r="6138" b="19951"/>
          <a:stretch/>
        </p:blipFill>
        <p:spPr>
          <a:xfrm>
            <a:off x="304920" y="190512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2320" y="6019920"/>
            <a:ext cx="4696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Images from: Biology by Miller and Levine; Prenntice Hall Publishing©2006</a:t>
            </a:r>
            <a:br>
              <a:rPr sz="1000"/>
            </a:b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http://www.toykeeper.com/pages/fp.porcupine.html</a:t>
            </a:r>
            <a:br>
              <a:rPr sz="1000"/>
            </a:b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http://pcs.linuxkidd.com/Wallpaper/Animals/Polar_Bear_Cub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057400" cy="1798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porcupine"/>
          <p:cNvPicPr/>
          <p:nvPr/>
        </p:nvPicPr>
        <p:blipFill>
          <a:blip r:embed="rId4"/>
          <a:stretch/>
        </p:blipFill>
        <p:spPr>
          <a:xfrm>
            <a:off x="3124080" y="1828800"/>
            <a:ext cx="24386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05160" y="11426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icture I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5334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atural var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0384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 lima beans with a variety of different sizes is an example of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8360" y="304200"/>
            <a:ext cx="507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http://www.practicallyedible.com/edible.nsf/(images)/ed.2409/$file/lima_beans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38862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05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the Beagl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36232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ship that Darwin sailed 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0240" y="15156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mage from: http://io.uwinnipeg.ca/~simmons/16cm05/1116/16anim3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724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On the Origin of Species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13372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book Darwin published providing evidence for this THEORY OF EV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51814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0560" y="1822320"/>
            <a:ext cx="780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of the following is NOT par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Darwin’s THEORY of EVOL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ural var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production of offspr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rvival of the fittes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heritance of acquired characteristic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cent with mod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1911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Shows the Earth is very old allowing time for evolution to happen;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ows record of change over time;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ows intermediate 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9051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lain how the fossil record supports Darwin’s theory of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27672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Organisms with more shared DNA sequences have a more recent common ancestor; characteristics of human chromosome #2 show human relatedness to chimpanz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9051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ain how DNA sequencing suppor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rwin’s theory of 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29600" y="0"/>
            <a:ext cx="45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ttp://www.zo.utexas.edu/faculty/sjasper/images/so28_04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13372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lands Darwin visited that most influenced his ideas about species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6483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the Gal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ά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gos Island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91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natural sele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1337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name fo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“survival of the fittes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572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fit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1337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arwin called the ability of an organism to survive and reproduce in its environment 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 descent with modificati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28600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rwin’s idea that each species has descended with changes from other species ov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arwin’s Theory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92104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fossils, artificial selection, geographic distribution, homologous structures, vestigial organs, embryology, DNA similarities, appearance of new diseases like, HIV/bird flu  and antibiotic resistant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828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3 kinds of evidence that support Darwin’s theory of 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800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rtificial sele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2096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election for breeding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rganisms with useful traits by hum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3434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: What are homologous structur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057400"/>
            <a:ext cx="761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es that have different mature forms but develop from the same embryonic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riedellke</cp:lastModifiedBy>
  <dcterms:modified xsi:type="dcterms:W3CDTF">2009-04-09T02:02:46Z</dcterms:modified>
  <cp:revision>101</cp:revision>
  <dc:subject/>
  <dc:title>Semester 2</dc:title>
</cp:coreProperties>
</file>